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002-77F8-494D-B790-D12DC8CB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202-EEEF-4450-BC5F-A13186C1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C24-655A-493A-93EC-E1B1D11D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A51-BBDA-4C3B-BB81-CF365251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8E08-C146-4878-A1EB-202B49C7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000-8A8A-4B8E-9B6A-85C9679D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20A1-F9A1-4A10-82D5-228BDDDD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A7D9-4D3E-4F0B-8306-8AE05C9D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185-A962-4373-9C1F-1754B6E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6CD4-D186-4E6D-B278-8EB9593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2ED-33FB-413A-8613-9E9C9EF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A45B-3EF4-4F54-A52F-FB671E12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E7EB-EF41-461C-A7A0-10DF25C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1ED-A3BE-44F7-B88B-ADA6FA4E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3AA3-DBB9-440C-BD39-E90B818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CA50-032D-44B7-A24D-17C7DFFA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5E55-C537-43B7-AB91-F822D84B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554-9633-4D1B-89B9-423A9E5C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397-49F3-471D-9C0B-B3EFA648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E44-7CBC-44F6-9022-7B189A0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F99-9C6D-4048-AAC6-FF23B66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6A7-CE3B-4A17-84EE-4BF2E3E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118-ECED-4687-904C-D96CC55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0E9-D72B-4228-9A0D-FA51E20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E23C-3236-4C9B-A6E3-004741AC73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EA6C-9E17-4A63-BEAB-E1952AFDD87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Vue d'ensemble 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99B-1B6D-4B34-A0EF-1BEA8F31DB6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1260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1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urs pendant toute la journé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sur la programmation financière. Présente les éléments nécessaires pour comprendre les défis que doit relever une économie à court et à moyen terme. Met en lien ces éléments avec l'analyse présentée par le FMI dans ses rapports Article 4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2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urs en matiné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ur la manière d'utiliser les indicateurs macroéconomiques pour préparer une “Évaluation macroéconomique” et remplir un “Cadre de gestion des risques” (CGR).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telier dans l'après-midi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onsacré à un CGR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Journée 3 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Deux cours en matiné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(Architecture financière internationale ; Programmes d'évaluation du secteur financier).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telier dans l'après-midi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ur le CGR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400-BA09-4B4E-91FB-1F7CC78C49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5-09-02T13:26:58Z</dcterms:modified>
  <cp:revision>237</cp:revision>
  <dc:subject/>
  <dc:title>Slide 1</dc:title>
</cp:coreProperties>
</file>